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23.png" ContentType="image/png"/>
  <Override PartName="/ppt/media/image35.wmf" ContentType="image/x-wmf"/>
  <Override PartName="/ppt/media/image15.png" ContentType="image/png"/>
  <Override PartName="/ppt/media/image9.png" ContentType="image/png"/>
  <Override PartName="/ppt/media/image30.jpeg" ContentType="image/jpeg"/>
  <Override PartName="/ppt/media/image37.wmf" ContentType="image/x-wmf"/>
  <Override PartName="/ppt/media/image31.jpeg" ContentType="image/jpeg"/>
  <Override PartName="/ppt/media/image25.png" ContentType="image/png"/>
  <Override PartName="/ppt/media/image6.png" ContentType="image/png"/>
  <Override PartName="/ppt/media/image34.wmf" ContentType="image/x-wmf"/>
  <Override PartName="/ppt/media/image14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36.wmf" ContentType="image/x-wmf"/>
  <Override PartName="/ppt/media/image16.png" ContentType="image/png"/>
  <Override PartName="/ppt/media/image38.wmf" ContentType="image/x-wmf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601"/>
                </a:solidFill>
                <a:latin typeface="Segoe Semibold"/>
              </a:rPr>
              <a:t>Click to move the slide</a:t>
            </a: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BE50-4863-416B-AB87-6958835FE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A6CF-92AB-4105-A895-55DFD7907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2320" y="1596600"/>
            <a:ext cx="838044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2320" y="3806640"/>
            <a:ext cx="838044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2320" y="159660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59660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2320" y="380664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380664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2320" y="1596600"/>
            <a:ext cx="26982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880" y="1596600"/>
            <a:ext cx="26982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96600"/>
            <a:ext cx="26982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2320" y="3806640"/>
            <a:ext cx="26982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880" y="3806640"/>
            <a:ext cx="26982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6640"/>
            <a:ext cx="26982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2320" y="1596600"/>
            <a:ext cx="8380440" cy="42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2320" y="1596600"/>
            <a:ext cx="8380440" cy="42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2320" y="1596600"/>
            <a:ext cx="4089600" cy="42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596600"/>
            <a:ext cx="4089600" cy="42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2320" y="614160"/>
            <a:ext cx="8380440" cy="60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2320" y="159660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596600"/>
            <a:ext cx="4089600" cy="42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2320" y="380664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2320" y="1596600"/>
            <a:ext cx="4089600" cy="42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59660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380664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2320" y="159660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59660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2320" y="3806640"/>
            <a:ext cx="838044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717480"/>
            <a:ext cx="9144000" cy="6140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2320" y="1596600"/>
            <a:ext cx="8380440" cy="42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1400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675720" indent="-33588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013400" indent="-33588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350000" indent="-3344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687680" indent="-3362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687680" indent="-3362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687680" indent="-3362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"/>
          <p:cNvSpPr/>
          <p:nvPr/>
        </p:nvSpPr>
        <p:spPr>
          <a:xfrm>
            <a:off x="-7560" y="6541920"/>
            <a:ext cx="31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www.managedservicesuniversity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60200" y="6491160"/>
            <a:ext cx="1303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BB40-4C5A-4BE2-8241-C069C99EDB4A}" type="slidenum"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62320" y="6556320"/>
            <a:ext cx="223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urtesy of iTel-ip – www.itel-ip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17.png"/><Relationship Id="rId17" Type="http://schemas.openxmlformats.org/officeDocument/2006/relationships/image" Target="../media/image8.jpeg"/><Relationship Id="rId18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8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0120" y="1825200"/>
            <a:ext cx="8508960" cy="31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b601"/>
                </a:solidFill>
                <a:latin typeface="Segoe Semibold"/>
              </a:rPr>
              <a:t>Voice Over IP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ffb601"/>
                </a:solidFill>
                <a:latin typeface="Segoe Semibold"/>
              </a:rPr>
              <a:t>A New Choice In Telecommunications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1" name=""/>
          <p:cNvSpPr/>
          <p:nvPr/>
        </p:nvSpPr>
        <p:spPr>
          <a:xfrm>
            <a:off x="2046240" y="330984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07960" y="57240"/>
            <a:ext cx="791208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1644480"/>
            <a:ext cx="30477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876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Manage all from your Web por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Available from any 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Easy access to company and personal directo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Easy template to 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1155600" y="212400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2933640" y="3129120"/>
            <a:ext cx="2667240" cy="2124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601"/>
                </a:solidFill>
                <a:latin typeface="Segoe Semibold"/>
              </a:rPr>
              <a:t>Personalize Your Communications</a:t>
            </a:r>
            <a:endParaRPr b="0" lang="en-US" sz="40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943600" y="1295280"/>
            <a:ext cx="274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90000"/>
              </a:lnSpc>
              <a:spcBef>
                <a:spcPts val="876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Shared company direc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876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Eliminate multiple directo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876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Look up first, last, or partial n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876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Available from any 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876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Easy to 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876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Update once for every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876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Click on any name to d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1168560" y="1960560"/>
            <a:ext cx="3878280" cy="30891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Company Directory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257800" y="1676520"/>
            <a:ext cx="38862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876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Easy to make and return ca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Using any browser or phone, see who cal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Return calls with a cli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Look up previously dialed nu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Return missed calls directly from a call lo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888840" y="1833480"/>
            <a:ext cx="3753000" cy="3203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Call Logs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4560" y="1396800"/>
            <a:ext cx="4190760" cy="49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75000"/>
              </a:lnSpc>
              <a:spcBef>
                <a:spcPts val="2126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Improves accessibility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75000"/>
              </a:lnSpc>
              <a:spcBef>
                <a:spcPts val="2126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Treat callers selectively (to increase productivity)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75000"/>
              </a:lnSpc>
              <a:spcBef>
                <a:spcPts val="2126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Prioritize how callers are handled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75000"/>
              </a:lnSpc>
              <a:spcBef>
                <a:spcPts val="2126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Create special call group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(e.g., VIP versus Family)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75000"/>
              </a:lnSpc>
              <a:spcBef>
                <a:spcPts val="2126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Certain callers can find you anywhere  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75000"/>
              </a:lnSpc>
              <a:spcBef>
                <a:spcPts val="2126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Only give out one phone number on business card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75000"/>
              </a:lnSpc>
              <a:spcBef>
                <a:spcPts val="2126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Protect privacy – no longer give out your home phone number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4622760" y="1793880"/>
            <a:ext cx="3784680" cy="3487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Call Priority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57040" y="1523520"/>
            <a:ext cx="36576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One click to call a favorite 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Locate favorite numbers in one place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Speed dial key customers or vendors without a manual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No special codes needed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Add favorites with a click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User never touches the phone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Billing codes available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</p:txBody>
      </p:sp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4406760" y="1947960"/>
            <a:ext cx="4267440" cy="3398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Improve Productivity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971800" y="4343400"/>
            <a:ext cx="6629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876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Work from h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Work from hot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Work from client’s off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Work from anywher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No special hardware or 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3022560" y="1590840"/>
            <a:ext cx="2627280" cy="242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Work From Any Internet Connection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562720" y="2033280"/>
            <a:ext cx="3352680" cy="41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 up a remote office instant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need an Internet connection and a direct-dial ph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from remote location but display your office name and nu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geographic lim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ct privacy by sending calls wi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er 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iminate multiple expense re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49160" y="2036880"/>
            <a:ext cx="4267440" cy="33987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Make It Easy For Your Teleworkers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49760" y="1596600"/>
            <a:ext cx="411336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Forward calls to any number 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lvl="1" marL="675720" indent="-3358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Mobile phone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75720" indent="-3358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Home phone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75720" indent="-3358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Remote office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75720" indent="-3358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Another extension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Forward calls to voicemail easily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No feature codes to access or program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762120" y="1857240"/>
            <a:ext cx="3784320" cy="34880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Make and Take Calls From Any Number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791320" y="1523880"/>
            <a:ext cx="312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876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Send unwanted callers directly to voicemai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(or broadcast a busy sign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62120" y="1857240"/>
            <a:ext cx="3784320" cy="3488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Stop Unwanted Callers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09880" y="3592440"/>
            <a:ext cx="5181840" cy="2656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85760" y="1599840"/>
            <a:ext cx="3395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Find Me/Follow Me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Call Logs 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lvl="1" marL="675720" indent="-3358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Missed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75720" indent="-3358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Incoming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75720" indent="-3358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Outgoing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Directory Access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lvl="1" marL="675720" indent="-3358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Fully synchronized with Outlook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75720" indent="-3358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Contact Directory is always up-to-date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75720" indent="-3358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Sync up multiple contact directories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038480" y="1219320"/>
            <a:ext cx="4648320" cy="1295280"/>
            <a:chOff x="4038480" y="1219320"/>
            <a:chExt cx="4648320" cy="1295280"/>
          </a:xfrm>
        </p:grpSpPr>
        <p:sp>
          <p:nvSpPr>
            <p:cNvPr id="109" name=""/>
            <p:cNvSpPr/>
            <p:nvPr/>
          </p:nvSpPr>
          <p:spPr>
            <a:xfrm>
              <a:off x="4038480" y="1219320"/>
              <a:ext cx="4648320" cy="1295280"/>
            </a:xfrm>
            <a:prstGeom prst="wedgeRectCallout">
              <a:avLst>
                <a:gd name="adj1" fmla="val -37532"/>
                <a:gd name="adj2" fmla="val 15686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12"/>
            <a:stretch/>
          </p:blipFill>
          <p:spPr>
            <a:xfrm>
              <a:off x="4114800" y="1295280"/>
              <a:ext cx="4435200" cy="116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5410080" y="2895480"/>
            <a:ext cx="1981080" cy="2590920"/>
            <a:chOff x="5410080" y="2895480"/>
            <a:chExt cx="1981080" cy="2590920"/>
          </a:xfrm>
        </p:grpSpPr>
        <p:sp>
          <p:nvSpPr>
            <p:cNvPr id="112" name=""/>
            <p:cNvSpPr/>
            <p:nvPr/>
          </p:nvSpPr>
          <p:spPr>
            <a:xfrm>
              <a:off x="5410080" y="2895480"/>
              <a:ext cx="1981080" cy="2590920"/>
            </a:xfrm>
            <a:prstGeom prst="wedgeRectCallout">
              <a:avLst>
                <a:gd name="adj1" fmla="val 3527"/>
                <a:gd name="adj2" fmla="val -9632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13"/>
            <a:stretch/>
          </p:blipFill>
          <p:spPr>
            <a:xfrm>
              <a:off x="5486400" y="2963880"/>
              <a:ext cx="1850760" cy="244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Outlook Integration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751040"/>
            <a:ext cx="82072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Features hidden and difficult to use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No control over moves, adds, changes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No support for remote workers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Multiple locations costly and hard to manage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Upgrades and expansions too costly and unpredictable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Can’t justify retaining phone system expert on-staff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Difficult maintaining communication between branch offices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Difficult to manage multiple phone numbers and voicemails 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Too many messages all over the place — voice, cell phone, e-mail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Multiple vendors make it difficult to manage invoicing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55627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601"/>
                </a:solidFill>
                <a:latin typeface="Segoe Semibold"/>
              </a:rPr>
              <a:t>How does your current system stack up against these challeng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What You’re Saying About Phone Systems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257800" y="1828800"/>
            <a:ext cx="373392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 all inboun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ssages quick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oritize your response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l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location to manage 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mess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ten to voicemail as you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 e-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 and print faxes, or fax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an e-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AP and POP3-compli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Unified Messaging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2120" y="1971720"/>
            <a:ext cx="3751200" cy="281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038480" y="1111320"/>
            <a:ext cx="472464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ivers a single-source, easy-to-use audio and Web conferencing solution for us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special hardware or vend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32680" y="2895480"/>
            <a:ext cx="2606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ailable from any 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Internet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multipl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user types –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Scheduled an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On Dem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Conferencing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155600" y="212400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933640" y="3129120"/>
            <a:ext cx="2667240" cy="21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89440" y="1803240"/>
            <a:ext cx="32004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Say goodbye to multiple vendors, long waits, and high costs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Control moves, adds, and changes from any location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View and print service records anytime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Manage remote offices from main office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Free up your IT staff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685800" y="1757520"/>
            <a:ext cx="4184640" cy="3571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Office Administrator Portal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952880" y="1299960"/>
            <a:ext cx="4114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Change employee info in a few clicks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Respond to business needs instantly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Expand and downsize to accommodate needs without vendors, hardware, and new trunks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Change hunt groups without calling vendors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Instantly change employee access to features and restrictions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Make changes in a few clicks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Follow easy-to-use prompts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27" name=""/>
          <p:cNvSpPr/>
          <p:nvPr/>
        </p:nvSpPr>
        <p:spPr>
          <a:xfrm>
            <a:off x="363600" y="1974960"/>
            <a:ext cx="826920" cy="436320"/>
          </a:xfrm>
          <a:prstGeom prst="rect">
            <a:avLst/>
          </a:prstGeom>
          <a:solidFill>
            <a:srgbClr val="1c29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685800" y="1757520"/>
            <a:ext cx="4184640" cy="3571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Instant Moves, Adds and Changes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3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Class 5 features you’re used to: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Call Forward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Call Pick up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Call Waiting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Call Hold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Call Conference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Call Transfer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Do Not Disturb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Call Park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Caller ID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Redial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Speed Dial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Executive Call Handling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Group Line Sharing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2997360"/>
            <a:ext cx="3276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7"/>
          <a:stretch/>
        </p:blipFill>
        <p:spPr>
          <a:xfrm>
            <a:off x="4533840" y="2301840"/>
            <a:ext cx="3751200" cy="28130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And More…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046240" y="4811760"/>
            <a:ext cx="2266920" cy="538200"/>
          </a:xfrm>
          <a:prstGeom prst="rect">
            <a:avLst/>
          </a:prstGeom>
          <a:solidFill>
            <a:srgbClr val="ff00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4160" y="1419120"/>
            <a:ext cx="2271600" cy="4646880"/>
          </a:xfrm>
          <a:prstGeom prst="rect">
            <a:avLst/>
          </a:prstGeom>
          <a:solidFill>
            <a:srgbClr val="ff0000"/>
          </a:solidFill>
          <a:ln w="19080">
            <a:solidFill>
              <a:srgbClr val="1c2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13320" y="1419120"/>
            <a:ext cx="2189160" cy="4646880"/>
          </a:xfrm>
          <a:prstGeom prst="rect">
            <a:avLst/>
          </a:prstGeom>
          <a:solidFill>
            <a:srgbClr val="ff0000"/>
          </a:solidFill>
          <a:ln w="19080">
            <a:solidFill>
              <a:srgbClr val="1c2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99400" y="1419120"/>
            <a:ext cx="2033640" cy="4646880"/>
          </a:xfrm>
          <a:prstGeom prst="rect">
            <a:avLst/>
          </a:prstGeom>
          <a:solidFill>
            <a:srgbClr val="ff0000"/>
          </a:solidFill>
          <a:ln w="19080">
            <a:solidFill>
              <a:srgbClr val="1c2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5400" y="1687680"/>
            <a:ext cx="8988120" cy="884160"/>
          </a:xfrm>
          <a:custGeom>
            <a:avLst/>
            <a:gdLst/>
            <a:ahLst/>
            <a:rect l="l" t="t" r="r" b="b"/>
            <a:pathLst>
              <a:path w="5765" h="1185">
                <a:moveTo>
                  <a:pt x="19" y="977"/>
                </a:moveTo>
                <a:lnTo>
                  <a:pt x="0" y="466"/>
                </a:lnTo>
                <a:lnTo>
                  <a:pt x="1180" y="0"/>
                </a:lnTo>
                <a:lnTo>
                  <a:pt x="5756" y="2"/>
                </a:lnTo>
                <a:lnTo>
                  <a:pt x="5765" y="720"/>
                </a:lnTo>
                <a:lnTo>
                  <a:pt x="1180" y="733"/>
                </a:lnTo>
                <a:lnTo>
                  <a:pt x="19" y="1185"/>
                </a:lnTo>
                <a:lnTo>
                  <a:pt x="19" y="895"/>
                </a:lnTo>
              </a:path>
            </a:pathLst>
          </a:custGeom>
          <a:solidFill>
            <a:srgbClr val="dddddd"/>
          </a:solidFill>
          <a:ln w="9360">
            <a:solidFill>
              <a:srgbClr val="1c29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5400" y="2320920"/>
            <a:ext cx="8988120" cy="884160"/>
          </a:xfrm>
          <a:custGeom>
            <a:avLst/>
            <a:gdLst/>
            <a:ahLst/>
            <a:rect l="l" t="t" r="r" b="b"/>
            <a:pathLst>
              <a:path w="5765" h="1185">
                <a:moveTo>
                  <a:pt x="19" y="977"/>
                </a:moveTo>
                <a:lnTo>
                  <a:pt x="0" y="466"/>
                </a:lnTo>
                <a:lnTo>
                  <a:pt x="1180" y="0"/>
                </a:lnTo>
                <a:lnTo>
                  <a:pt x="5756" y="2"/>
                </a:lnTo>
                <a:lnTo>
                  <a:pt x="5765" y="720"/>
                </a:lnTo>
                <a:lnTo>
                  <a:pt x="1180" y="733"/>
                </a:lnTo>
                <a:lnTo>
                  <a:pt x="19" y="1185"/>
                </a:lnTo>
                <a:lnTo>
                  <a:pt x="19" y="895"/>
                </a:lnTo>
              </a:path>
            </a:pathLst>
          </a:custGeom>
          <a:solidFill>
            <a:srgbClr val="dddddd"/>
          </a:solidFill>
          <a:ln w="9360">
            <a:solidFill>
              <a:srgbClr val="1c29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5400" y="2960640"/>
            <a:ext cx="8988120" cy="884160"/>
          </a:xfrm>
          <a:custGeom>
            <a:avLst/>
            <a:gdLst/>
            <a:ahLst/>
            <a:rect l="l" t="t" r="r" b="b"/>
            <a:pathLst>
              <a:path w="5765" h="1185">
                <a:moveTo>
                  <a:pt x="19" y="977"/>
                </a:moveTo>
                <a:lnTo>
                  <a:pt x="0" y="466"/>
                </a:lnTo>
                <a:lnTo>
                  <a:pt x="1180" y="0"/>
                </a:lnTo>
                <a:lnTo>
                  <a:pt x="5756" y="2"/>
                </a:lnTo>
                <a:lnTo>
                  <a:pt x="5765" y="720"/>
                </a:lnTo>
                <a:lnTo>
                  <a:pt x="1180" y="733"/>
                </a:lnTo>
                <a:lnTo>
                  <a:pt x="19" y="1185"/>
                </a:lnTo>
                <a:lnTo>
                  <a:pt x="19" y="895"/>
                </a:lnTo>
              </a:path>
            </a:pathLst>
          </a:custGeom>
          <a:solidFill>
            <a:srgbClr val="dddddd"/>
          </a:solidFill>
          <a:ln w="9360">
            <a:solidFill>
              <a:srgbClr val="1c29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5400" y="3575160"/>
            <a:ext cx="8988120" cy="884160"/>
          </a:xfrm>
          <a:custGeom>
            <a:avLst/>
            <a:gdLst/>
            <a:ahLst/>
            <a:rect l="l" t="t" r="r" b="b"/>
            <a:pathLst>
              <a:path w="5765" h="1185">
                <a:moveTo>
                  <a:pt x="19" y="977"/>
                </a:moveTo>
                <a:lnTo>
                  <a:pt x="0" y="466"/>
                </a:lnTo>
                <a:lnTo>
                  <a:pt x="1180" y="0"/>
                </a:lnTo>
                <a:lnTo>
                  <a:pt x="5756" y="2"/>
                </a:lnTo>
                <a:lnTo>
                  <a:pt x="5765" y="720"/>
                </a:lnTo>
                <a:lnTo>
                  <a:pt x="1180" y="733"/>
                </a:lnTo>
                <a:lnTo>
                  <a:pt x="19" y="1185"/>
                </a:lnTo>
                <a:lnTo>
                  <a:pt x="19" y="895"/>
                </a:lnTo>
              </a:path>
            </a:pathLst>
          </a:custGeom>
          <a:solidFill>
            <a:srgbClr val="dddddd"/>
          </a:solidFill>
          <a:ln w="9360">
            <a:solidFill>
              <a:srgbClr val="1c29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5400" y="4189320"/>
            <a:ext cx="8988120" cy="884160"/>
          </a:xfrm>
          <a:custGeom>
            <a:avLst/>
            <a:gdLst/>
            <a:ahLst/>
            <a:rect l="l" t="t" r="r" b="b"/>
            <a:pathLst>
              <a:path w="5765" h="1185">
                <a:moveTo>
                  <a:pt x="19" y="977"/>
                </a:moveTo>
                <a:lnTo>
                  <a:pt x="0" y="466"/>
                </a:lnTo>
                <a:lnTo>
                  <a:pt x="1180" y="0"/>
                </a:lnTo>
                <a:lnTo>
                  <a:pt x="5756" y="2"/>
                </a:lnTo>
                <a:lnTo>
                  <a:pt x="5765" y="720"/>
                </a:lnTo>
                <a:lnTo>
                  <a:pt x="1180" y="733"/>
                </a:lnTo>
                <a:lnTo>
                  <a:pt x="19" y="1185"/>
                </a:lnTo>
                <a:lnTo>
                  <a:pt x="19" y="895"/>
                </a:lnTo>
              </a:path>
            </a:pathLst>
          </a:custGeom>
          <a:solidFill>
            <a:srgbClr val="dddddd"/>
          </a:solidFill>
          <a:ln w="9360">
            <a:solidFill>
              <a:srgbClr val="1c29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5400" y="4803840"/>
            <a:ext cx="8988120" cy="884160"/>
          </a:xfrm>
          <a:custGeom>
            <a:avLst/>
            <a:gdLst/>
            <a:ahLst/>
            <a:rect l="l" t="t" r="r" b="b"/>
            <a:pathLst>
              <a:path w="5765" h="1185">
                <a:moveTo>
                  <a:pt x="19" y="977"/>
                </a:moveTo>
                <a:lnTo>
                  <a:pt x="0" y="466"/>
                </a:lnTo>
                <a:lnTo>
                  <a:pt x="1180" y="0"/>
                </a:lnTo>
                <a:lnTo>
                  <a:pt x="5756" y="2"/>
                </a:lnTo>
                <a:lnTo>
                  <a:pt x="5765" y="720"/>
                </a:lnTo>
                <a:lnTo>
                  <a:pt x="1180" y="733"/>
                </a:lnTo>
                <a:lnTo>
                  <a:pt x="19" y="1185"/>
                </a:lnTo>
                <a:lnTo>
                  <a:pt x="19" y="895"/>
                </a:lnTo>
              </a:path>
            </a:pathLst>
          </a:custGeom>
          <a:solidFill>
            <a:srgbClr val="dddddd"/>
          </a:solidFill>
          <a:ln w="9360">
            <a:solidFill>
              <a:srgbClr val="1c29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0953800">
            <a:off x="202680" y="2502000"/>
            <a:ext cx="145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grades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F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995200">
            <a:off x="204120" y="3198600"/>
            <a:ext cx="14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mote U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20914800">
            <a:off x="165600" y="3867120"/>
            <a:ext cx="16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ilities/Rea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20944200">
            <a:off x="161280" y="4375080"/>
            <a:ext cx="179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aster Recov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S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0926200">
            <a:off x="169200" y="5097240"/>
            <a:ext cx="13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epho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20915400">
            <a:off x="312120" y="1934640"/>
            <a:ext cx="155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pital Expe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5400" y="5419800"/>
            <a:ext cx="8988120" cy="884160"/>
          </a:xfrm>
          <a:custGeom>
            <a:avLst/>
            <a:gdLst/>
            <a:ahLst/>
            <a:rect l="l" t="t" r="r" b="b"/>
            <a:pathLst>
              <a:path w="5765" h="1185">
                <a:moveTo>
                  <a:pt x="19" y="977"/>
                </a:moveTo>
                <a:lnTo>
                  <a:pt x="0" y="466"/>
                </a:lnTo>
                <a:lnTo>
                  <a:pt x="1180" y="0"/>
                </a:lnTo>
                <a:lnTo>
                  <a:pt x="5756" y="2"/>
                </a:lnTo>
                <a:lnTo>
                  <a:pt x="5765" y="720"/>
                </a:lnTo>
                <a:lnTo>
                  <a:pt x="1180" y="733"/>
                </a:lnTo>
                <a:lnTo>
                  <a:pt x="19" y="1185"/>
                </a:lnTo>
                <a:lnTo>
                  <a:pt x="19" y="895"/>
                </a:lnTo>
              </a:path>
            </a:pathLst>
          </a:custGeom>
          <a:solidFill>
            <a:srgbClr val="dddddd"/>
          </a:solidFill>
          <a:ln w="9360">
            <a:solidFill>
              <a:srgbClr val="1c29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20843400">
            <a:off x="243720" y="5742000"/>
            <a:ext cx="84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96880" y="1371600"/>
            <a:ext cx="164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osted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6120" y="138276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BX-bas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28600" y="138096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entr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5240" y="1687680"/>
            <a:ext cx="195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system purc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 pho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34200" y="1674720"/>
            <a:ext cx="176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rchase system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-100K aver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1649520"/>
            <a:ext cx="214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system to purc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40480" y="5388120"/>
            <a:ext cx="245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wser based MACs from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y Internet conn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4840" y="2327400"/>
            <a:ext cx="166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invest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Installm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36480" y="2314440"/>
            <a:ext cx="220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new f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der from local Tel Co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4880" y="2916360"/>
            <a:ext cx="2132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 from any Interne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special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24840" y="2935440"/>
            <a:ext cx="181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al desig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al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8640" y="2935440"/>
            <a:ext cx="235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 an integrated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23040" y="3537000"/>
            <a:ext cx="226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stomer premis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23160" y="3537000"/>
            <a:ext cx="233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l telephone compan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2360" y="4176720"/>
            <a:ext cx="218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vel 3 reliable network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redunda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09360" y="4151160"/>
            <a:ext cx="237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s of service out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rchase extra equipm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redunda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10560" y="4176720"/>
            <a:ext cx="233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l telephone compan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68920" y="480528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, analog, digi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11160" y="4805280"/>
            <a:ext cx="127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riet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97600" y="4805280"/>
            <a:ext cx="21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rietary and analo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4160" y="3551400"/>
            <a:ext cx="205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.S. (and EU 2Q04) is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-ne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66400" y="2327400"/>
            <a:ext cx="238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new capital invest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wser-ba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05040" y="5400720"/>
            <a:ext cx="238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new capital invest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wser ba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05160" y="5425920"/>
            <a:ext cx="238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new capital invest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wser-ba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2680" y="233280"/>
            <a:ext cx="838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How is This Different from a PBX or </a:t>
            </a:r>
            <a:br>
              <a:rPr sz="3200"/>
            </a:b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Centrex-based syst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46000"/>
            <a:ext cx="85838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How is your Hosted VoIP system deployed?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2320" y="1596960"/>
            <a:ext cx="4113000" cy="134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lnSpc>
                <a:spcPct val="90000"/>
              </a:lnSpc>
              <a:spcBef>
                <a:spcPts val="104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Standard PBX and IP PBX functionality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lvl="1" marL="566640" indent="-222120">
              <a:lnSpc>
                <a:spcPct val="90000"/>
              </a:lnSpc>
              <a:spcBef>
                <a:spcPts val="788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Separate providers for voice, data, and video services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409680" y="3479760"/>
            <a:ext cx="8391600" cy="24861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26160" y="1968480"/>
            <a:ext cx="4038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66640" indent="-222120">
              <a:lnSpc>
                <a:spcPct val="90000"/>
              </a:lnSpc>
              <a:spcBef>
                <a:spcPts val="788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Separate providers for voice, data, and video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6640" indent="-222120">
              <a:lnSpc>
                <a:spcPct val="90000"/>
              </a:lnSpc>
              <a:spcBef>
                <a:spcPts val="788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Unique proprietary systems and sup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Traditional Deployment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82320" y="1596960"/>
            <a:ext cx="4113000" cy="21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lnSpc>
                <a:spcPct val="90000"/>
              </a:lnSpc>
              <a:spcBef>
                <a:spcPts val="788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Hosted Services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566640" indent="-222120">
              <a:lnSpc>
                <a:spcPct val="90000"/>
              </a:lnSpc>
              <a:spcBef>
                <a:spcPts val="788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Hosted Voice, Conferencing, and Unified Connection all in one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566640" indent="-222120">
              <a:lnSpc>
                <a:spcPct val="90000"/>
              </a:lnSpc>
              <a:spcBef>
                <a:spcPts val="788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Integrated Web portal with Outlook integration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5666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74520" y="3987720"/>
            <a:ext cx="8955360" cy="21668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1600200" y="4010040"/>
            <a:ext cx="1981080" cy="14428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788000" y="2298600"/>
            <a:ext cx="403848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66640" indent="-222120">
              <a:lnSpc>
                <a:spcPct val="90000"/>
              </a:lnSpc>
              <a:spcBef>
                <a:spcPts val="788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Single provider for all converged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6640" indent="-222120">
              <a:lnSpc>
                <a:spcPct val="90000"/>
              </a:lnSpc>
              <a:spcBef>
                <a:spcPts val="788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Standards-based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6640" indent="-222120">
              <a:lnSpc>
                <a:spcPct val="90000"/>
              </a:lnSpc>
              <a:spcBef>
                <a:spcPts val="788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Your Hosted VoIP Deployment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1434960"/>
            <a:ext cx="914400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1150920"/>
            <a:ext cx="7620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Hosted VOIP System converges all services and features on a nationwide backbone and delivers interconnection to PSTN solutio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8896320" cy="40384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Network Topology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91" name=""/>
          <p:cNvSpPr/>
          <p:nvPr/>
        </p:nvSpPr>
        <p:spPr>
          <a:xfrm>
            <a:off x="6451560" y="3987720"/>
            <a:ext cx="157500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89240" y="2260440"/>
            <a:ext cx="7113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600200"/>
            <a:ext cx="8153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there’s a Better Way!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sted Voice Over IP Servic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Busin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19320" y="1581120"/>
            <a:ext cx="2084400" cy="4680000"/>
          </a:xfrm>
          <a:prstGeom prst="rect">
            <a:avLst/>
          </a:prstGeom>
          <a:solidFill>
            <a:srgbClr val="eaeaea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95760" y="1604880"/>
            <a:ext cx="2033640" cy="4686480"/>
          </a:xfrm>
          <a:prstGeom prst="rect">
            <a:avLst/>
          </a:prstGeom>
          <a:solidFill>
            <a:srgbClr val="eaeaea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70080" y="2449440"/>
            <a:ext cx="1976400" cy="20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ted PB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al call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al Toll call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limited On-net call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f-net Long Distance (additional per-minute fee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173320" y="4317840"/>
            <a:ext cx="1974960" cy="1594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653000" y="2685960"/>
            <a:ext cx="160020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te Call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fied Communic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b and Audio Conferenc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onal Communications Manager (PCM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08160" y="1587600"/>
            <a:ext cx="2098800" cy="654120"/>
          </a:xfrm>
          <a:prstGeom prst="rect">
            <a:avLst/>
          </a:prstGeom>
          <a:solidFill>
            <a:srgbClr val="1c298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79080" y="1650960"/>
            <a:ext cx="20232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Pho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49040" y="2281320"/>
            <a:ext cx="1852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me features as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usiness </a:t>
            </a:r>
            <a:br>
              <a:rPr sz="1000"/>
            </a:b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Plan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us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84600" y="1587600"/>
            <a:ext cx="2048040" cy="654120"/>
          </a:xfrm>
          <a:prstGeom prst="rect">
            <a:avLst/>
          </a:prstGeom>
          <a:solidFill>
            <a:srgbClr val="1c298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1704960"/>
            <a:ext cx="1825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Plus 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Packages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737240" y="4282920"/>
            <a:ext cx="1376280" cy="1032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156280" y="4792680"/>
            <a:ext cx="1374840" cy="109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220760" y="1635120"/>
            <a:ext cx="2362320" cy="1716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762120" y="4048200"/>
            <a:ext cx="3419280" cy="1976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743840" y="4014720"/>
            <a:ext cx="11224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ll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33920" y="2254320"/>
            <a:ext cx="132660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n-Dem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ferenc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839880" y="2778120"/>
            <a:ext cx="1542960" cy="4287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384880" y="1814400"/>
            <a:ext cx="2620800" cy="158436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954680" y="1330200"/>
            <a:ext cx="1487520" cy="1001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6754680" y="2798640"/>
            <a:ext cx="1405080" cy="9381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312920" y="1244520"/>
            <a:ext cx="29779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r Web Portal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ith Microsoft Outloo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43480" y="5753160"/>
            <a:ext cx="5295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b601"/>
                </a:solidFill>
                <a:latin typeface="Segoe Semibold"/>
              </a:rPr>
              <a:t>These options require minimum of Business Pl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7"/>
          <a:srcRect l="0" t="0" r="25463" b="0"/>
          <a:stretch/>
        </p:blipFill>
        <p:spPr>
          <a:xfrm>
            <a:off x="5259240" y="4530600"/>
            <a:ext cx="901800" cy="863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6251400" y="4540320"/>
            <a:ext cx="1213200" cy="8683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5897520" y="4826160"/>
            <a:ext cx="655560" cy="976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490000" y="4286160"/>
            <a:ext cx="1753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fied Messag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A La Carte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82320" y="1596960"/>
            <a:ext cx="4113000" cy="30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lnSpc>
                <a:spcPct val="90000"/>
              </a:lnSpc>
              <a:spcBef>
                <a:spcPts val="104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T-1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222120" indent="-222120">
              <a:lnSpc>
                <a:spcPct val="90000"/>
              </a:lnSpc>
              <a:spcBef>
                <a:spcPts val="104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NxT1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222120" indent="-222120">
              <a:lnSpc>
                <a:spcPct val="90000"/>
              </a:lnSpc>
              <a:spcBef>
                <a:spcPts val="104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DS3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222120" indent="-222120">
              <a:lnSpc>
                <a:spcPct val="90000"/>
              </a:lnSpc>
              <a:spcBef>
                <a:spcPts val="104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DSL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222120" indent="-222120">
              <a:lnSpc>
                <a:spcPct val="90000"/>
              </a:lnSpc>
              <a:spcBef>
                <a:spcPts val="1049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Any existing Broadband Connection*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lvl="1"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Access Options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601"/>
                </a:solidFill>
                <a:latin typeface="Segoe Semibold"/>
              </a:rPr>
              <a:t>Equipment Options</a:t>
            </a:r>
            <a:endParaRPr b="0" lang="en-US" sz="3600" spc="-1" strike="noStrike">
              <a:solidFill>
                <a:srgbClr val="ffb601"/>
              </a:solidFill>
              <a:latin typeface="Segoe Semibold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695600" y="1452600"/>
          <a:ext cx="2074680" cy="155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5600" y="1452600"/>
                    <a:ext cx="20746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686480" y="1359000"/>
          <a:ext cx="2444400" cy="183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6480" y="1359000"/>
                    <a:ext cx="244440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4762440" y="3251160"/>
            <a:ext cx="228600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ycom IP 5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71560" y="4568760"/>
            <a:ext cx="7839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itional CPE Op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isco 7940 — 2 Lines with full duplex speak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isco ATA186 — 2-port analog adap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ycom IP 600 – Six Lines with full duplex Speak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ycom IP Conference Room Ph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31160" y="3559320"/>
            <a:ext cx="184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x Lin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ull duplex spea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61880" y="3660840"/>
            <a:ext cx="184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ree li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ull duplex spea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27280" y="3124080"/>
            <a:ext cx="200664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isco 7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098880" y="1066680"/>
            <a:ext cx="2743200" cy="1594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, move, or change vo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nes in minutes instead of the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ditional days or month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d users determine how an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en to be contacted, free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p the admin 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299040" y="2362320"/>
            <a:ext cx="2619000" cy="1295280"/>
            <a:chOff x="3299040" y="2362320"/>
            <a:chExt cx="2619000" cy="1295280"/>
          </a:xfrm>
        </p:grpSpPr>
        <p:sp>
          <p:nvSpPr>
            <p:cNvPr id="235" name=""/>
            <p:cNvSpPr/>
            <p:nvPr/>
          </p:nvSpPr>
          <p:spPr>
            <a:xfrm>
              <a:off x="3299040" y="2743200"/>
              <a:ext cx="1458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ministrativ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4681440" y="2362320"/>
              <a:ext cx="123660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"/>
          <p:cNvSpPr/>
          <p:nvPr/>
        </p:nvSpPr>
        <p:spPr>
          <a:xfrm>
            <a:off x="6222960" y="1828800"/>
            <a:ext cx="2286000" cy="2108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vide customers o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mber to reach you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y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sign VIP treatment f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t prospects so cal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en’t miss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ck calling activity with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e cli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832800" y="3668760"/>
            <a:ext cx="1752120" cy="1055520"/>
            <a:chOff x="6832800" y="3668760"/>
            <a:chExt cx="1752120" cy="1055520"/>
          </a:xfrm>
        </p:grpSpPr>
        <p:sp>
          <p:nvSpPr>
            <p:cNvPr id="239" name=""/>
            <p:cNvSpPr/>
            <p:nvPr/>
          </p:nvSpPr>
          <p:spPr>
            <a:xfrm>
              <a:off x="6832800" y="3962160"/>
              <a:ext cx="689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al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3"/>
            <a:stretch/>
          </p:blipFill>
          <p:spPr>
            <a:xfrm>
              <a:off x="7441920" y="3668760"/>
              <a:ext cx="1143000" cy="105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"/>
          <p:cNvSpPr/>
          <p:nvPr/>
        </p:nvSpPr>
        <p:spPr>
          <a:xfrm>
            <a:off x="1019160" y="4689360"/>
            <a:ext cx="3247920" cy="15836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-to-call from anywhere 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ernet-enabled cell pho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erate in the field like you’re i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offic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ification of voicemail messag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saves you time and expe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879560" y="4114800"/>
            <a:ext cx="3048120" cy="812520"/>
            <a:chOff x="1879560" y="4114800"/>
            <a:chExt cx="3048120" cy="812520"/>
          </a:xfrm>
        </p:grpSpPr>
        <p:sp>
          <p:nvSpPr>
            <p:cNvPr id="243" name=""/>
            <p:cNvSpPr/>
            <p:nvPr/>
          </p:nvSpPr>
          <p:spPr>
            <a:xfrm>
              <a:off x="1879560" y="4114800"/>
              <a:ext cx="14479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bile Employe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4"/>
            <a:stretch/>
          </p:blipFill>
          <p:spPr>
            <a:xfrm>
              <a:off x="3251160" y="4114800"/>
              <a:ext cx="1676520" cy="81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/>
          <p:cNvSpPr/>
          <p:nvPr/>
        </p:nvSpPr>
        <p:spPr>
          <a:xfrm>
            <a:off x="203040" y="1523880"/>
            <a:ext cx="2667240" cy="16711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nect to same pho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stem as H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joy all the benefits of th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fice” in all remote off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ward voicemails back t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rpor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79360" y="2819520"/>
            <a:ext cx="2817720" cy="1295280"/>
            <a:chOff x="279360" y="2819520"/>
            <a:chExt cx="2817720" cy="1295280"/>
          </a:xfrm>
        </p:grpSpPr>
        <p:sp>
          <p:nvSpPr>
            <p:cNvPr id="247" name=""/>
            <p:cNvSpPr/>
            <p:nvPr/>
          </p:nvSpPr>
          <p:spPr>
            <a:xfrm>
              <a:off x="279360" y="3276720"/>
              <a:ext cx="1600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lecommuter and SOH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8" name="" descr=""/>
            <p:cNvPicPr/>
            <p:nvPr/>
          </p:nvPicPr>
          <p:blipFill>
            <a:blip r:embed="rId5"/>
            <a:stretch/>
          </p:blipFill>
          <p:spPr>
            <a:xfrm>
              <a:off x="1879560" y="2819520"/>
              <a:ext cx="121752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4927680" y="5181480"/>
            <a:ext cx="3733560" cy="8989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lement efficient communication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stem with minimal time, effort, co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re time to focus on systems and iss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232240" y="4079880"/>
            <a:ext cx="1581840" cy="1330200"/>
            <a:chOff x="5232240" y="4079880"/>
            <a:chExt cx="1581840" cy="1330200"/>
          </a:xfrm>
        </p:grpSpPr>
        <p:sp>
          <p:nvSpPr>
            <p:cNvPr id="251" name=""/>
            <p:cNvSpPr/>
            <p:nvPr/>
          </p:nvSpPr>
          <p:spPr>
            <a:xfrm>
              <a:off x="6453360" y="4800600"/>
              <a:ext cx="3607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6"/>
            <a:stretch/>
          </p:blipFill>
          <p:spPr>
            <a:xfrm>
              <a:off x="5232240" y="4079880"/>
              <a:ext cx="1295280" cy="13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Sample End-User Applications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29760" y="1549440"/>
            <a:ext cx="86108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88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Is the phone a critical part of your business?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80000"/>
              </a:lnSpc>
              <a:spcBef>
                <a:spcPts val="788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Is your business highly collaborative? Do you use conferencing today?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80000"/>
              </a:lnSpc>
              <a:spcBef>
                <a:spcPts val="788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Want to eliminate the costs and management associated with branch offices?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80000"/>
              </a:lnSpc>
              <a:spcBef>
                <a:spcPts val="788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Do you have a mobile sales force?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80000"/>
              </a:lnSpc>
              <a:spcBef>
                <a:spcPts val="788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Is your business focused on customer service?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80000"/>
              </a:lnSpc>
              <a:spcBef>
                <a:spcPts val="788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Do you anticipate rapid or uncertain growth?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80000"/>
              </a:lnSpc>
              <a:spcBef>
                <a:spcPts val="788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Are you planning an office move soon?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80000"/>
              </a:lnSpc>
              <a:spcBef>
                <a:spcPts val="788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Are you looking for increases in business productivity?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80000"/>
              </a:lnSpc>
              <a:spcBef>
                <a:spcPts val="788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Do you want control and management over moves, adds, and changes?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80000"/>
              </a:lnSpc>
              <a:spcBef>
                <a:spcPts val="788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Do you want to eliminate costly upgrades or expansion?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80000"/>
              </a:lnSpc>
              <a:spcBef>
                <a:spcPts val="788"/>
              </a:spcBef>
              <a:buSzPct val="1829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Do you want immediate access to new features?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Are You a Candidate for Hosted VoIP?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16000" y="1994040"/>
            <a:ext cx="853416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s your productiv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ts monthly telecom co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ales with your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ple to control, configure, and customi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s you to focus on your business instead of your communications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601"/>
                </a:solidFill>
                <a:latin typeface="Segoe Semibold"/>
              </a:rPr>
              <a:t>As We End Our Session</a:t>
            </a:r>
            <a:endParaRPr b="0" lang="en-US" sz="40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4475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No more headaches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Inexpensive to implement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Simple to control, configure, customize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No more upgrades (i.e., protection from obsolescence)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Unparalleled productivity gains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Scale according to your needs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Why Hosted VoIP Service?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240" y="1587600"/>
            <a:ext cx="848196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PBX or Centrex replacement services voted Product of the Yea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2003 by </a:t>
            </a:r>
            <a:r>
              <a:rPr b="0" i="1" lang="en-US" sz="2000" spc="-1" strike="noStrike">
                <a:solidFill>
                  <a:srgbClr val="ffffff"/>
                </a:solidFill>
                <a:latin typeface="Segoe Semibold"/>
              </a:rPr>
              <a:t>Internet Telephony Magazine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Hosted IP voice service for local and long distance voice 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lvl="1" marL="675720" indent="-3358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Individual handset phone number assignment and dial-tone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75720" indent="-3358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Long list of Class 5 features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75720" indent="-3358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Intra-enterprise private dial plan management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757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Hosted IP voice services provide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lvl="1" marL="675720" indent="-3358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IP-enabled productivity tools for managing moves, adds, changes 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75720" indent="-3358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Web- and audio-based conferencing service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75720" indent="-3358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One box for fax, voice, voicemail, and e-mail (unified messaging)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75720" indent="-3358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Web-based portal for end-user management and personalization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Why Hosted VoIP Service?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320" y="2623680"/>
            <a:ext cx="690732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601"/>
                </a:solidFill>
                <a:latin typeface="Segoe Semibold"/>
              </a:rPr>
              <a:t>How will VoIP                     </a:t>
            </a:r>
            <a:br>
              <a:rPr sz="4400"/>
            </a:br>
            <a:r>
              <a:rPr b="0" lang="en-US" sz="4400" spc="-1" strike="noStrike">
                <a:solidFill>
                  <a:srgbClr val="ffb601"/>
                </a:solidFill>
                <a:latin typeface="Segoe Semibold"/>
              </a:rPr>
              <a:t>make your life simpler?</a:t>
            </a: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2120" y="1143000"/>
            <a:ext cx="8229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c2986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1549440"/>
            <a:ext cx="830592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Create “National” campus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Allows the combination of multiple sites on one call plan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Free your IT staff to maintain systems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Save Operating and Capital expense dollars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No new infrastructure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Free “On-Net” calling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Reduce support costs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No large investment upfront 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lvl="1" marL="682560" indent="-339480">
              <a:lnSpc>
                <a:spcPct val="90000"/>
              </a:lnSpc>
              <a:spcBef>
                <a:spcPts val="788"/>
              </a:spcBef>
              <a:buSzPct val="1361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Ability to easily manage moves, adds and changes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Disaster Recovery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Advanced feature set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VoIP Benefits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82960" y="1968480"/>
            <a:ext cx="4703760" cy="3527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Easy Login from Any Web Browser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0" y="1371600"/>
            <a:ext cx="2079720" cy="177156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380880" y="5261040"/>
            <a:ext cx="841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 dynamically synchronizes all communications between User Web Portal, Microsoft Outlook, your desktop phone, and IP-enabled wireless de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010280" y="358128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46720" y="21337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one syncs with brow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46720" y="16765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46720" y="2590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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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46720" y="39006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bile syncs with brow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6720" y="3443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46720" y="4357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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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816200" y="2200320"/>
            <a:ext cx="2666880" cy="20001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Synchronize Communications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21:42:31Z</dcterms:created>
  <dc:creator/>
  <dc:description/>
  <dc:language>en-US</dc:language>
  <cp:lastModifiedBy>Erick Simpson</cp:lastModifiedBy>
  <dcterms:modified xsi:type="dcterms:W3CDTF">2006-08-18T13:48:28Z</dcterms:modified>
  <cp:revision>395</cp:revision>
  <dc:subject/>
  <dc:title>Managed Services VoIP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